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2999C-A702-4FF9-B9D8-FFBF513AC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A6D4-FDA6-4C1D-B623-39183BE5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0672-CE78-4C0D-89FF-2FFAD201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6136-3857-49C9-B955-C0F280EC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AA05-0A96-43B7-B411-96C6DA1A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C988-2A55-471C-A029-093F7D98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3A7F-F6B0-49FB-9858-0DF90305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8E9-C503-4A8C-AF37-62B6E07F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06A3-ADAD-49F1-A060-A3D4685A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EAA-C85C-49A6-B7BF-1374A779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BA80-DD7E-4ABB-B114-9BACA18C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3E21-AC94-4FB2-B2C8-A3620D0A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8754-3534-4AB0-8D63-0C65EB29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157520"/>
            <a:ext cx="2338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/dd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7157520"/>
            <a:ext cx="3186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7157520"/>
            <a:ext cx="23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6 support for citizen-to-authority emergency serv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erminal currently disconnected from the net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indication during initial network entry to identify that the purpose of a network entry event is to make an emergency services VoIP c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urrently active termi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encoding to identify that a specific service flow is identified for ES services; reserved for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Location Based Services (LBS); GPS based, network based, and GPS with network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n+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6 air interface hooks are only part of a tot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he network compon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MAX Forum, an industry forum implementing the 802.16 air interface, has created an end-to-end specification for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n+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Forum end-to-end spe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initial network entry ES service indication bit/active terminal ES flow traffic indication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pass full subscription authentication in regulatory environments that require by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line the terminal to a local ES VoIP gateway server to direct the user traffic to the ES service; for INE ES events this is the only permitted service for unauthenticate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n+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MAX Forum end-to-end sp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has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to specific carrier supported VoIP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ed VoIP services vary across terminals and 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unified, common VoIP service across all WiMAX networks/terminal form factors (laptop chipset, USB dongle for laptop, workpad, smartphone, SIM based phone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ty of terminal form factors confounds common VoIP servic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distribution model where operator does not have direct relationship with terminal vendor confounds VoIP servic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n+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Forum end-to-end spe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al VoIP service requires common, certifiable VoIP implementation (default client basic functionality, voice CODEC, session protocol); still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Phillip Barber</cp:lastModifiedBy>
  <dcterms:modified xsi:type="dcterms:W3CDTF">2010-03-03T02:37:46Z</dcterms:modified>
  <cp:revision>280</cp:revision>
  <dc:subject/>
  <dc:title>TUTORIAL (n)</dc:title>
</cp:coreProperties>
</file>